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F92A0-0D5E-49CA-9886-B0F17BDA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2E2C-39BE-4C94-B5C0-688ECB0E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E5EF2-58C4-4999-A306-0B01CA11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7D166-99DF-4190-93E0-65AF892B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B1DD-EA3A-44B7-9B4E-74658F24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C045-3A47-4D7F-99E5-08D6A833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A49F-2262-4F81-92AA-7601AC0D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C806-C858-45B6-B87F-8AF7FB59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2EBB-95DE-4580-B7F8-F67FAEF4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4F32-F252-483A-A0DB-23664221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1588-5E77-4AB4-B9BF-7ECB643B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F722-B32C-4282-8B20-2B467AE9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243B-60E6-43CE-853A-9C9821C3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DC37-21C3-4386-A64E-C3DC5E34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6D25-85AD-4A53-9A9A-FD99CD90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FDE7-8BA6-43E0-8993-04CA6C57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9DF9-55B4-4FC2-8E7D-A3A01338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D6EC-81DF-422B-BC15-1BF704B7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E3C54-CA06-472A-BA21-65DC8ED1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4387-BB51-4CD1-9961-37102E4E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32D79-9404-4196-84A4-EA731F1B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CE66-D770-4E6E-A86E-54C75BC9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7379-ACEE-4AD6-9A2D-45A07335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D570-1ABE-48B1-B66F-AB449A71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604C-15EB-446E-B0BA-7F00BC7A16F8}" type="slidenum">
              <a:rPr b="0" lang="en-A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F9D5-037D-4816-93E0-37C35BA7287A}" type="slidenum">
              <a:rPr b="0" lang="en-A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Economic Syst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27" name="SmartArt Placeholder 2054"/>
          <p:cNvGrpSpPr/>
          <p:nvPr/>
        </p:nvGrpSpPr>
        <p:grpSpPr>
          <a:xfrm>
            <a:off x="395280" y="1557360"/>
            <a:ext cx="8208360" cy="4462560"/>
            <a:chOff x="395280" y="1557360"/>
            <a:chExt cx="8208360" cy="4462560"/>
          </a:xfrm>
        </p:grpSpPr>
        <p:cxnSp>
          <p:nvCxnSpPr>
            <p:cNvPr id="128" name="_s1028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489280" y="2351880"/>
              <a:ext cx="893160" cy="2873520"/>
            </a:xfrm>
            <a:prstGeom prst="bentConnector3">
              <a:avLst>
                <a:gd name="adj1" fmla="val 4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029"/>
            <p:cNvCxnSpPr>
              <a:stCxn id="132" idx="0"/>
              <a:endCxn id="130" idx="2"/>
            </p:cNvCxnSpPr>
            <p:nvPr/>
          </p:nvCxnSpPr>
          <p:spPr>
            <a:xfrm rot="16200000">
              <a:off x="4052880" y="3788640"/>
              <a:ext cx="893160" cy="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030"/>
            <p:cNvCxnSpPr>
              <a:stCxn id="134" idx="0"/>
              <a:endCxn id="130" idx="2"/>
            </p:cNvCxnSpPr>
            <p:nvPr/>
          </p:nvCxnSpPr>
          <p:spPr>
            <a:xfrm flipH="1" flipV="1" rot="5400000">
              <a:off x="2616480" y="2352240"/>
              <a:ext cx="893160" cy="2873160"/>
            </a:xfrm>
            <a:prstGeom prst="bentConnector3">
              <a:avLst>
                <a:gd name="adj1" fmla="val 4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0" name="_s1031"/>
            <p:cNvSpPr/>
            <p:nvPr/>
          </p:nvSpPr>
          <p:spPr>
            <a:xfrm>
              <a:off x="3268080" y="155736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66"/>
                  </a:solidFill>
                  <a:latin typeface="Arial"/>
                </a:rPr>
                <a:t>Definition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032"/>
            <p:cNvSpPr/>
            <p:nvPr/>
          </p:nvSpPr>
          <p:spPr>
            <a:xfrm>
              <a:off x="395280" y="4235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66"/>
                  </a:solidFill>
                  <a:latin typeface="Arial"/>
                </a:rPr>
                <a:t>Four function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033"/>
            <p:cNvSpPr/>
            <p:nvPr/>
          </p:nvSpPr>
          <p:spPr>
            <a:xfrm>
              <a:off x="3268080" y="4235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66"/>
                  </a:solidFill>
                  <a:latin typeface="Arial"/>
                </a:rPr>
                <a:t>Functions Fulfilled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034"/>
            <p:cNvSpPr/>
            <p:nvPr/>
          </p:nvSpPr>
          <p:spPr>
            <a:xfrm>
              <a:off x="6141240" y="4235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66"/>
                  </a:solidFill>
                  <a:latin typeface="Arial"/>
                </a:rPr>
                <a:t>Types of System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Subsistence Econom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ll decisions are made at a tribal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 commercial acti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elf-sufficiency is promo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asic human needs are met, methods of production are simple and labour intens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ustom/culture is a major factor in economic decision making and property ownershi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Activit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rite a paragraph describing how a planned economy and a market economy diff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MCj02505190000[1]"/>
          <p:cNvPicPr/>
          <p:nvPr/>
        </p:nvPicPr>
        <p:blipFill>
          <a:blip r:embed="rId1"/>
          <a:stretch/>
        </p:blipFill>
        <p:spPr>
          <a:xfrm>
            <a:off x="2700360" y="2565360"/>
            <a:ext cx="38163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Activity: Categorising Countrie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raw a diagram that illustrates two dimensions of economic organisation and development.  The horizontal dimension is the degree of government involvement.  The vertical dimension concerns the level of technological advance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Locate the following countries on the diagram in terms of where they would best f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66"/>
                </a:solidFill>
                <a:latin typeface="Tahoma"/>
                <a:ea typeface="Arial"/>
              </a:rPr>
              <a:t>USA; Japan; Germany; Sweden; Britain; Australia; Greece; India; China; Cuba; N. Korea and Ugan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Defini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way in which a nation deals with the economic problem.  It is a system that is established in order to allocate and distribute resources for production in order to meet nee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Four function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to produ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How to produ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How much to produ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For whom to produ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Functions Fulfille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ice mech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vernment dec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ixture of bo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radition or cus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Four types of Economic Syst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arket or unplanned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mmand or planned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ixed or semi-planned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ubsistence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Think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do we need an economic syste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MCj01505630000[1]"/>
          <p:cNvPicPr/>
          <p:nvPr/>
        </p:nvPicPr>
        <p:blipFill>
          <a:blip r:embed="rId1"/>
          <a:stretch/>
        </p:blipFill>
        <p:spPr>
          <a:xfrm>
            <a:off x="3132000" y="2421000"/>
            <a:ext cx="338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Unplanned/Market Econom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ll economic decisions are made by private individuals or grou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 government involv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ll property is privately owned, resource allocation and production is totally determined by pr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ofit is the motive behind all economic acti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Planned/Command Econom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ll decisions are made by a central planning authority (governmen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 private sec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ll property is owned by the government and decisions are not price or profit motiv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cc"/>
                </a:solidFill>
                <a:latin typeface="Tahoma"/>
              </a:rPr>
              <a:t>Mixed/Semi-planned Econom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ixture of both government and private economic activity.  Actual mix will vary from country to count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 the real world, all economies are of this typ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2:16:41Z</dcterms:created>
  <dc:creator>hinks.russell</dc:creator>
  <dc:description/>
  <dc:language>en-US</dc:language>
  <cp:lastModifiedBy>Alison Taylor</cp:lastModifiedBy>
  <dcterms:modified xsi:type="dcterms:W3CDTF">2012-10-23T05:43:52Z</dcterms:modified>
  <cp:revision>4</cp:revision>
  <dc:subject/>
  <dc:title>Economic Systems</dc:title>
</cp:coreProperties>
</file>